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741-2591-4874-A966-107B7D99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A41-AC41-48DC-9AD4-30365E46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F46-BA60-45CF-BFA5-47CA2396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D33-821D-4F84-A51C-0814EE26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83E-8F25-46D5-AE11-57DAD66A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CA7-567C-4BFF-85B1-2A785BA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70A-B55E-4FA3-A725-1CAB0DAC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533-9A1F-4F92-BBB4-40B9FBC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452-BCF5-49E1-920B-CA68919C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D8F-5A12-4312-A889-93CD60A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2E0-BECF-4083-99FB-CDAF943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978-200E-4746-9349-9391C86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B54A-CA8B-4466-8725-C5C5AD242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ff"/>
                </a:solidFill>
                <a:latin typeface="Times New Roman"/>
              </a:rPr>
              <a:t>Talks to Animal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9:10:09Z</dcterms:created>
  <dc:creator>owner</dc:creator>
  <dc:description/>
  <dc:language>en-US</dc:language>
  <cp:lastModifiedBy>owner</cp:lastModifiedBy>
  <dcterms:modified xsi:type="dcterms:W3CDTF">2011-01-19T12:53:20Z</dcterms:modified>
  <cp:revision>2</cp:revision>
  <dc:subject/>
  <dc:title>I talk to the animals…</dc:title>
</cp:coreProperties>
</file>